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media/image11.png" ContentType="image/png"/>
  <Override PartName="/ppt/media/image12.jpeg" ContentType="image/jpeg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912-077D-4DCE-BDED-4492BA51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6C2-B458-488D-BE5F-E4F5ABCC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31B8-9748-41A2-90D3-86C0FA53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D5D-0F2E-44F1-9A0C-D78098C8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565-DBD7-4AAD-A3DD-BCF6EAE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413-AF6B-4D1B-BDBB-018D3236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071-D53B-4B16-A873-B11B6E8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D46-F27B-47EE-A2BB-723B08D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2BC-E348-40A6-A431-350E141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23C-3790-4CA0-8F0B-1CDEB7B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A83-61DA-496F-9DEC-3423C73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416-D753-45E5-BF07-F2488A55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E18-D459-48DC-845E-507CECE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318-3CEC-4468-B204-1B80570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360-1039-422C-9520-2113003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FBA-BEB6-41D3-BB9B-B596A334866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23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grpSp>
          <p:nvGrpSpPr>
            <p:cNvPr id="113" name="Group 35"/>
            <p:cNvGrpSpPr/>
            <p:nvPr/>
          </p:nvGrpSpPr>
          <p:grpSpPr>
            <a:xfrm>
              <a:off x="152280" y="2206800"/>
              <a:ext cx="6305760" cy="882360"/>
              <a:chOff x="152280" y="2206800"/>
              <a:chExt cx="6305760" cy="882360"/>
            </a:xfrm>
          </p:grpSpPr>
          <p:sp>
            <p:nvSpPr>
              <p:cNvPr id="114" name="Rectangle 36"/>
              <p:cNvSpPr/>
              <p:nvPr/>
            </p:nvSpPr>
            <p:spPr>
              <a:xfrm>
                <a:off x="152280" y="2273760"/>
                <a:ext cx="5706360" cy="73692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37"/>
              <p:cNvSpPr/>
              <p:nvPr/>
            </p:nvSpPr>
            <p:spPr>
              <a:xfrm rot="5400000">
                <a:off x="5687280" y="2318400"/>
                <a:ext cx="882360" cy="658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38"/>
            <p:cNvSpPr/>
            <p:nvPr/>
          </p:nvSpPr>
          <p:spPr>
            <a:xfrm>
              <a:off x="456840" y="24354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grpSp>
          <p:nvGrpSpPr>
            <p:cNvPr id="118" name="Group 29"/>
            <p:cNvGrpSpPr/>
            <p:nvPr/>
          </p:nvGrpSpPr>
          <p:grpSpPr>
            <a:xfrm>
              <a:off x="152280" y="3121200"/>
              <a:ext cx="6324120" cy="882360"/>
              <a:chOff x="152280" y="3121200"/>
              <a:chExt cx="6324120" cy="882360"/>
            </a:xfrm>
          </p:grpSpPr>
          <p:sp>
            <p:nvSpPr>
              <p:cNvPr id="119" name="Rectangle 30"/>
              <p:cNvSpPr/>
              <p:nvPr/>
            </p:nvSpPr>
            <p:spPr>
              <a:xfrm>
                <a:off x="152280" y="3188160"/>
                <a:ext cx="5723640" cy="73692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rot="5400000">
                <a:off x="5704920" y="3232080"/>
                <a:ext cx="88236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39"/>
            <p:cNvSpPr/>
            <p:nvPr/>
          </p:nvSpPr>
          <p:spPr>
            <a:xfrm>
              <a:off x="533160" y="33498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16165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16165d"/>
                  </a:solidFill>
                  <a:latin typeface="Arial"/>
                </a:rPr>
                <a:t>History and Nature of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grpSp>
          <p:nvGrpSpPr>
            <p:cNvPr id="123" name="Group 32"/>
            <p:cNvGrpSpPr/>
            <p:nvPr/>
          </p:nvGrpSpPr>
          <p:grpSpPr>
            <a:xfrm>
              <a:off x="152280" y="4035600"/>
              <a:ext cx="6324120" cy="914400"/>
              <a:chOff x="152280" y="4035600"/>
              <a:chExt cx="6324120" cy="914400"/>
            </a:xfrm>
          </p:grpSpPr>
          <p:sp>
            <p:nvSpPr>
              <p:cNvPr id="124" name="Rectangle 33"/>
              <p:cNvSpPr/>
              <p:nvPr/>
            </p:nvSpPr>
            <p:spPr>
              <a:xfrm>
                <a:off x="152280" y="4105080"/>
                <a:ext cx="5723640" cy="763560"/>
              </a:xfrm>
              <a:prstGeom prst="rect">
                <a:avLst/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34"/>
              <p:cNvSpPr/>
              <p:nvPr/>
            </p:nvSpPr>
            <p:spPr>
              <a:xfrm rot="5400000">
                <a:off x="5688720" y="4162320"/>
                <a:ext cx="91440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40"/>
            <p:cNvSpPr/>
            <p:nvPr/>
          </p:nvSpPr>
          <p:spPr>
            <a:xfrm>
              <a:off x="533160" y="42642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grpSp>
          <p:nvGrpSpPr>
            <p:cNvPr id="128" name="Group 43"/>
            <p:cNvGrpSpPr/>
            <p:nvPr/>
          </p:nvGrpSpPr>
          <p:grpSpPr>
            <a:xfrm>
              <a:off x="152280" y="1292400"/>
              <a:ext cx="6324120" cy="838080"/>
              <a:chOff x="152280" y="1292400"/>
              <a:chExt cx="6324120" cy="838080"/>
            </a:xfrm>
          </p:grpSpPr>
          <p:sp>
            <p:nvSpPr>
              <p:cNvPr id="129" name="Rectangle 44"/>
              <p:cNvSpPr/>
              <p:nvPr/>
            </p:nvSpPr>
            <p:spPr>
              <a:xfrm>
                <a:off x="152280" y="1356120"/>
                <a:ext cx="5723640" cy="6998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45"/>
              <p:cNvSpPr/>
              <p:nvPr/>
            </p:nvSpPr>
            <p:spPr>
              <a:xfrm rot="5400000">
                <a:off x="5726880" y="1380960"/>
                <a:ext cx="83808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47"/>
            <p:cNvSpPr/>
            <p:nvPr/>
          </p:nvSpPr>
          <p:spPr>
            <a:xfrm>
              <a:off x="1528920" y="1521000"/>
              <a:ext cx="27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228600" y="1216080"/>
            <a:ext cx="5715000" cy="4343400"/>
            <a:chOff x="228600" y="1216080"/>
            <a:chExt cx="5715000" cy="4343400"/>
          </a:xfrm>
        </p:grpSpPr>
        <p:sp>
          <p:nvSpPr>
            <p:cNvPr id="133" name="AutoShape 48"/>
            <p:cNvSpPr/>
            <p:nvPr/>
          </p:nvSpPr>
          <p:spPr>
            <a:xfrm>
              <a:off x="228600" y="1216080"/>
              <a:ext cx="5715000" cy="4343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 rot="2314200">
              <a:off x="1522800" y="2765520"/>
              <a:ext cx="32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52100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49560" y="65520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609588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66680" y="35784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he the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52280" y="2359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s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4924_"/>
          <p:cNvPicPr/>
          <p:nvPr/>
        </p:nvPicPr>
        <p:blipFill>
          <a:blip r:embed="rId2"/>
          <a:stretch/>
        </p:blipFill>
        <p:spPr>
          <a:xfrm rot="19207200">
            <a:off x="50760" y="634680"/>
            <a:ext cx="981000" cy="9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8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20080" cy="51753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717552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2438280"/>
            <a:ext cx="7086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80880" y="3505320"/>
            <a:ext cx="6477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43:28Z</dcterms:created>
  <dc:creator>Mary Knuck</dc:creator>
  <dc:description/>
  <dc:language>en-US</dc:language>
  <cp:lastModifiedBy>Jennifer Robinson</cp:lastModifiedBy>
  <dcterms:modified xsi:type="dcterms:W3CDTF">2009-06-04T05:26:24Z</dcterms:modified>
  <cp:revision>97</cp:revision>
  <dc:subject/>
  <dc:title>PowerPoint Presentation</dc:title>
</cp:coreProperties>
</file>